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5813-CFED-4B18-8F17-35ED4D25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7AB9-0C88-4E2F-915C-79D93C16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CE18-9051-4365-9D3A-FEF37ABF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25AB-52F7-44CC-A903-6783A5F2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A224-357F-4206-911D-35A77409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A747-8679-47EF-9B37-0563FAD1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919B-5A1D-4575-A823-F4C0E922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AA1F-9589-44B5-B414-1300B3CB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422C-D85A-4AC0-A463-D24A0846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E80E-6270-48A2-8062-B776C782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DFA5-3C30-41A9-B619-9F98A538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1995-F9B3-4A7F-A194-91768BAA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1133-CB26-4D94-BC90-BE3DB7D3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FB54-15AB-4421-8A1A-835F459D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5578-7F98-4E67-A394-9F7E7B33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7E18-076A-41D7-B8FB-D0FB049F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F835-DDF8-47A2-BCB2-E32812AE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00683-A710-4740-83F4-B5D48088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738B6-3BF3-46DA-9C8D-0CA5EF50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F931A-476C-4B42-A1D6-5E0A91EC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8B71B-4838-4FFB-896F-42FF35A2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7B9BF-35E4-43F5-8809-66D5D7E6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D9F7-9561-4E60-B5D2-4263485B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08E47-E9C6-4373-B921-B5EA18C0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8AB8C-CC9B-4D7C-823C-C7828B20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728AD-CE64-404D-B73E-281D1651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0D0A9-15A6-42B6-91F5-C4936383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A21FC-73ED-4B1E-8A9B-DDC8AAA3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5CC4A-2C78-4A7C-AFA0-E3AFA3A7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96496-1E7A-4289-B37C-43EC643B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46DDB-03D5-48BB-BAD2-0CF03242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8B05E-F181-4FB1-AC73-3CE878D5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93975-ABCE-45DA-8342-78AD416B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F024-D4CB-4DC8-9803-149F04C4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BF7F7-9326-48EE-9886-17E033A8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8312D-7E56-4966-B23C-0F542335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8FFEB-27E8-43CE-9056-850F7B00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9737F-C40D-4F0F-8382-3FB36336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70E5C-E608-4BFD-BD84-1044C455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C9FE8-DECF-4F55-BD3D-5E63A333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7A37D-4293-4B3C-AB6F-1E225EC3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CA3B7-DE17-45E3-9CD0-B3E15B3F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531C3-D3E4-47D1-BA33-9FA435BD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5FB5-76D6-43C8-99E3-E145758D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1F6B-DE26-4B15-9C3C-7B451FA6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5D59-1F7A-4B9C-80BC-CFC750E8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A4A5-68D2-4B6D-B9A2-E364D7AC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4C25-D43A-4763-9670-BC5FB299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0445-4449-4865-9696-3EFF8BE3A63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0711-A6C7-48E2-B21C-21470716305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0585-765B-40D0-80DA-EBCA99FF919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D76C-097C-4629-9C77-6E731837F27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1/49/95/49095620_kometa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rugosvet.r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-main-pic" descr="Картинка 92 из 723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1000080"/>
            <a:ext cx="7358040" cy="528660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1" descr=""/>
          <p:cNvPicPr/>
          <p:nvPr/>
        </p:nvPicPr>
        <p:blipFill>
          <a:blip r:embed="rId3"/>
          <a:stretch/>
        </p:blipFill>
        <p:spPr>
          <a:xfrm>
            <a:off x="530280" y="1255680"/>
            <a:ext cx="8454960" cy="20113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33160" y="3228840"/>
            <a:ext cx="7854840" cy="32004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Выполнил:  Лобанов Алексей Александрови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Студент 4 кур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Физико-математический факульте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Сыктывкар 201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4617b"/>
                </a:solidFill>
                <a:latin typeface="Calibri"/>
              </a:rPr>
              <a:t>? Основополагающий вопрос?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олкнется ли комета с Землей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Рисунок 3" descr="http://www.impactlab.com/wp-content/uploads/2009/04/comet_1294349c.jpg"/>
          <p:cNvPicPr/>
          <p:nvPr/>
        </p:nvPicPr>
        <p:blipFill>
          <a:blip r:embed="rId1"/>
          <a:stretch/>
        </p:blipFill>
        <p:spPr>
          <a:xfrm>
            <a:off x="1928880" y="2571840"/>
            <a:ext cx="53337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Calibri"/>
              </a:rPr>
              <a:t>? Проблемные вопросы ?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Комета Галлея в истории Росс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Строение кометы Галле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Время существования коме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вижение комет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руктура комет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рбита и скорост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лассификация кометных орбит?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400" y="713880"/>
            <a:ext cx="82580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Представление результатов исследования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рафик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эсс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ворческое задани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езентация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аблиц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фото - репортаж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ообщен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Распределение по группам: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285920"/>
          <a:ext cx="8229600" cy="5095800"/>
        </p:xfrm>
        <a:graphic>
          <a:graphicData uri="http://schemas.openxmlformats.org/drawingml/2006/table">
            <a:tbl>
              <a:tblPr/>
              <a:tblGrid>
                <a:gridCol w="1042920"/>
                <a:gridCol w="3714840"/>
                <a:gridCol w="1414440"/>
                <a:gridCol w="2057400"/>
              </a:tblGrid>
              <a:tr h="97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омер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част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едст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езультат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мета Галлея в истории Ро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роение кометы Галле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 существования ко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вижение ко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вижение ко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рбита и скор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ассификация кометных орб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Продолжительность проекта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2 недел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Этапы проведения проекта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ыбор и формулировка тем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иск информаци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амостоятельная работа учащих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едоставление результатов исследова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Информационные ресурсы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krugosvet.r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http://astro.websib.r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1:06:24Z</dcterms:created>
  <dc:creator>Анжелика</dc:creator>
  <dc:description/>
  <dc:language>en-US</dc:language>
  <cp:lastModifiedBy>Анжелика</cp:lastModifiedBy>
  <dcterms:modified xsi:type="dcterms:W3CDTF">2010-05-15T12:07:03Z</dcterms:modified>
  <cp:revision>6</cp:revision>
  <dc:subject/>
  <dc:title>Малые тела Солнечной системы</dc:title>
</cp:coreProperties>
</file>